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D14-9371-49A7-BBC5-5508E2AD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329-B206-40DB-836B-99DB612F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954-3AD1-49D0-9451-009FE9B6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9B6-DF4A-4C7B-983A-5BB32449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FABD-7BCE-4CD2-B049-1B585248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BC47-39C9-4297-B16F-E0E61D3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4D0D-3B06-497E-A316-D749EF1D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1AEE-59E4-4BA6-900D-E32AA523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F857-2827-496C-8DC3-D2FDECBB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5BCC-F553-40FB-8EEC-EAC4D859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50BF-FBFF-4B0D-89A4-8AC569C7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CC2-8FEA-4DFE-A545-837505F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45DF-649E-4228-9280-82B6DEA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988-71E3-4C2F-ADB8-CC3C6C6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1AC0-0465-4EEB-9B1C-C9BC265B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F1D4-858F-46BD-B363-DC986188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81D7-A2AE-414A-9CEF-5CB8E9AB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BE6-E9FD-406E-9B6F-672B934E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761-3B49-437D-8294-35BA5DB4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96E-537D-46B5-B73B-DDF526D8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F88-769E-4C91-BE84-515AD54D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9A2-29AB-46CA-B355-E9153692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B5F-CFD7-4604-B5CF-34625A9B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497-4A94-447F-BD01-84E62D6F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2B5E-4EED-4928-978A-BA398EFDBC4D}" type="slidenum">
              <a:rPr b="0" lang="ar-Q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2976-3AEB-4146-9ECC-4BCB5C25B636}" type="slidenum">
              <a:rPr b="0" lang="ar-Q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ogpile.com/" TargetMode="External"/><Relationship Id="rId2" Type="http://schemas.openxmlformats.org/officeDocument/2006/relationships/hyperlink" Target="http://www.catcisearch.com/" TargetMode="External"/><Relationship Id="rId3" Type="http://schemas.openxmlformats.org/officeDocument/2006/relationships/hyperlink" Target="http://www.searchenginecolossus.com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i.org/" TargetMode="External"/><Relationship Id="rId2" Type="http://schemas.openxmlformats.org/officeDocument/2006/relationships/hyperlink" Target="http://bubl.ac.uk/" TargetMode="External"/><Relationship Id="rId3" Type="http://schemas.openxmlformats.org/officeDocument/2006/relationships/hyperlink" Target="http://directory.google.com/" TargetMode="External"/><Relationship Id="rId4" Type="http://schemas.openxmlformats.org/officeDocument/2006/relationships/hyperlink" Target="http://directory.google.com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The Nature of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rching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ng, and us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713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Key Word Search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713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Question Searrches http://www.answers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713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Advanced 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* A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* 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* “quotation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ethods of Research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Water conservation projects in Qatar. Do three searches and compare the resul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to evaluate web sources?</a:t>
            </a: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There is no quality contro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ebsites are often not update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Search engines do not distinguish between good and bad Websit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eb Evaluation Crite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Before you click on the link to view the page: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ook at the UR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heck the domain nam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s it published by a group that makes sense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eb Evaluation Crite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When you go to a Websit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n you tell who wrote it or who created the Website?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n you find evidence of the authority or credentials of the author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ow current is the Website?  Has the information been update? Does the author use links or footnotes to document the information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o the links work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f the Website contains links to other resources, are the links biased or slanted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iting Your Sourc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iting the sources it shows other people how to find the same information that you fou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cite a source on the Web, you need to have the following inform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name of the Website and auth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day you found th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Web address or UR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copyright date for the Web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0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iting Your Sourc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en.wikipedia.org/wiki/History_of_Qa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hor:  There is no specific author lis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itle:  Wikipedia Encyclopaedia, History of Qa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b address: http://en.wikipedia.org/wiki/History_of_Qa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pyright date:  14 Decembe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e found:  3 January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ssessmen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assessment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ake a Safari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Do activity sheet 4 as ho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dentify major search t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lect a search tool best suited to their purpo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duct effective searches using a variety of techniq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ritically evaluate Websites and information found on the Inter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ite Internet sources that are used in a research report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the sources of informat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de9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ks vs. Intern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hink of ways the Internet and Books are alike and ways they are differ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arch 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- Search eng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bject Indexes and Directo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3- Online Libra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4- Encyclopaed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- Search Engi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411440"/>
          </a:xfrm>
          <a:prstGeom prst="rect">
            <a:avLst/>
          </a:prstGeom>
          <a:solidFill>
            <a:srgbClr val="f3f3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, Yahoo, M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arch engine is a program that allows you to search the internet for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etasearch engine is a search engine that searches other search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dogpi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catcisear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search eng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searchenginecolossu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330066"/>
                </a:solidFill>
                <a:latin typeface="Arial"/>
              </a:rPr>
              <a:t>2- Subject Indexes and Directori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ory is best used for specialized information on a particular top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ory uses subject tree or subject directo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i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bubl.ac.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directory.google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http://dir.yahoo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3- Online Librari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w York Public Library’s Student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kids.nypl.org/internet/reference.cf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ston Public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search3.webfeat.org/bostonsearch.asp?cat=db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4- Encyclopaedi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nline encyclopaedia is useful to search for a brief explanation or an introduction to a top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wikipedi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www.britannica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www.encarta.msn.co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7:39:21Z</dcterms:created>
  <dc:creator>user</dc:creator>
  <dc:description/>
  <dc:language>en-US</dc:language>
  <cp:lastModifiedBy>Fatam</cp:lastModifiedBy>
  <dcterms:modified xsi:type="dcterms:W3CDTF">2008-03-09T17:26:06Z</dcterms:modified>
  <cp:revision>31</cp:revision>
  <dc:subject/>
  <dc:title>Course: Foundamentals of Research</dc:title>
</cp:coreProperties>
</file>